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BDC-533F-424B-B85F-AD7EC7C0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776-CA19-47A8-8C40-A19F6FD7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A66-B103-426F-9B90-C91E19A7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D7C-ED5D-4EF0-A470-764A8DD1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EA5A-C07A-4609-96B5-58506C01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80E7-982C-445E-9127-1F00B9B2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751B-74FF-43AF-B053-871CA716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7E91-45D7-4158-A405-CF0B8CBB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BE57-AA02-4097-9C85-DF059239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2096-60DA-40F2-BA6B-64BE1B5E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8716-A1D7-41A5-A727-36D2B4B1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384-6951-4B60-8734-FC7BB341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4A63-C4AA-4E74-A7F3-958FC448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927A-C908-40F0-A3CB-F894E51E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BA07-6C7B-401F-81EC-66436EE2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8942-CE6F-420B-99A3-5218710B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920C-3A51-4954-B9C3-36D3A5D6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4C34B-912B-457C-8E22-43F1A1E4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3FBD-29BD-4826-98BE-C1B2A586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A8409-8573-49F6-A081-9667EB15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E69B4-BF8B-496F-9319-3A658D1F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DADC5-ACFC-4DAA-9026-12816DDD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F57-AB3F-470A-9ED4-1B91C90B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4387-6629-4E67-ACCB-EC3084A2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26180-5396-48ED-AA51-72F5F5B0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69094-817E-4150-B81A-43ACC7E2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C5DA0-B669-46C0-A396-2C686910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01015-BD7B-4A21-A573-C8E650FA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77E7-3BD4-4BAD-B574-E13B2796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2D78A-3A5C-495F-8AFB-A335DAEA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96DF9-B407-4CA9-BC0D-A8DC1A43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294B1-4A9D-45F7-A3A2-07403403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C9BC-FFC0-4D81-B966-CD0532F3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E15-D0EA-4C6D-AA54-B4C03BC8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7E47F-AE1E-4F85-92D2-73A6FFCF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D61C5-0795-4E3C-8AAA-23D7B6AC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85875-6462-4EB7-A918-56E50F62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72F6D-CC88-4132-AF31-C038CC96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0218-5C02-4B4E-ABC3-18E82633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34870-4CF9-4393-A258-3E7503D4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39356-26EA-4EC7-B918-FD6BBEB4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F899F-A7E3-4841-8FAA-19AB44A8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01B0B-72E7-4C66-8351-65117B96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E82BE-D978-4241-87E2-4AD69FB9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5AD-42A4-454C-A1AC-2491EF98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50CD3-CAB6-4485-94AC-6784384C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172C8-3CB0-4BCF-A948-BB8443AB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C1920-D01C-4D2B-81C5-6398D46E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EF15B-1BC8-4669-9E4C-B3624988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FE114-5A30-4770-B9F0-8B0E50D0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235EF-3278-4690-B40E-9DB5F9EE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F6EFB-2CD9-4E66-92C1-2F83013D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52018-3697-48A5-A0FD-B39FE4DE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924F6-AF9D-4424-B8CA-568228FD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11F81-B842-4BA2-9168-D9B11042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0D9-83CC-41FF-B0E5-E55AFAEA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FE4C2-CE20-4FB1-A0C3-1A8BCD1D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F51C3-EDA7-451F-A70D-15A5BD24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BD168-95E0-4193-8729-BAE45FCD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C14CC-2B20-4354-B298-42613ED4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8B4E1-C5B5-4E5C-A80A-7277118D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504BE-5049-4845-A421-3D99E338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FD1C0-D562-489C-9E82-1E138DE1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35392-50FB-454E-938C-7A585595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1C97D-F266-4989-AFDE-521564DB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D2907-2F33-47F8-A667-AF21A70F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A99-C8DC-4B22-AB68-E9CA77D4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57686-AF65-42FE-85AA-D26F0EDD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E2B84-3727-4C57-BA0B-F0863E74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702B0-D9E6-4FA8-A9BF-188EF6AB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59452-ED27-4486-92B0-A1A18B75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170B8-F834-4729-9B60-11BC7D36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BDC40-B14D-47D3-BA32-F43F9606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C0820-2DA8-4E18-A78A-AEBCB69F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8AA30-79BC-4508-8059-0B67F7AA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0D800-D73A-4AA8-A5BD-D7DC5ECA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3ED9C-BF77-44A9-A3E1-32E39200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A98-C1D3-42A7-8D26-625F8DF7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930FC-12B1-48FC-93F6-67D3327F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030DB-0C42-4172-B735-BA699391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135E7-11F9-4F29-B8B6-86336EDC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10248-987F-4A09-A87D-47F132A0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2541A-E0BC-415C-B46B-B20A85A3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3CF70-E322-445A-9709-AA8D4232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A1993-A446-48D1-807E-717FCE49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02AB0-9EE0-4C0A-95C6-C996689A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35137-6F56-427E-88E5-2DA92E57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93F57-2A69-4632-982F-B1880AF1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C60-4EEA-422C-A227-9CF06A2A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62B3D-2A77-467E-8F79-43EBC5D7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21BAB-27B4-42FE-BEAD-9491D6C2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D21AD-A44E-40E2-BD59-960E537F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D878F-974E-4A10-AB1A-54EB0D76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20D52-0EFA-426A-AF56-5A1C5182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99B7A-B6B5-416B-95E4-E9301465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5D4B2-CE82-4139-87FD-6C55FF6A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92D8-F7BE-4BD1-A094-77BCB493FA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99F3-089E-4AA2-B65B-0DE544F477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8718-61F9-44FB-B0E9-E529A03D569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32D3-A85F-4273-854E-F67DED1177B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344B-408C-44CE-BD42-DE12590FED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47FA-2FDB-4FB5-A98A-4C344176393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D96F-5F0B-4F53-9DC5-CC823AEB87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F464-6B73-44F2-9290-1E5EF1D3B98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93560" y="1384200"/>
            <a:ext cx="83822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Мобу « Новочеркасская СОШ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Булдакова Л.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15+2=17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15-2=13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3 · 17 = 51км – расстояние по течению за три час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3· 13 = 39 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68 : 17 = 4 часа по теч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78 : 13 =6 к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) 17-13 = 4км/ча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5" descr="C:\Users\Любовь_2\Desktop\АВГУСТ - СЕНТЯБРЬ\КАРТИНКИ ПРЕЗ\img13.jpg"/>
          <p:cNvPicPr/>
          <p:nvPr/>
        </p:nvPicPr>
        <p:blipFill>
          <a:blip r:embed="rId2"/>
          <a:stretch/>
        </p:blipFill>
        <p:spPr>
          <a:xfrm>
            <a:off x="6143760" y="3857760"/>
            <a:ext cx="2286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арианты у вас на столе – приступайте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Любовь_2\Desktop\АВГУСТ - СЕНТЯБРЬ\КАРТИНКИ ПРЕЗ\sova.jpg"/>
          <p:cNvPicPr/>
          <p:nvPr/>
        </p:nvPicPr>
        <p:blipFill>
          <a:blip r:embed="rId2"/>
          <a:stretch/>
        </p:blipFill>
        <p:spPr>
          <a:xfrm>
            <a:off x="3571920" y="2428920"/>
            <a:ext cx="43336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9, 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Любовь_2\Desktop\АВГУСТ - СЕНТЯБРЬ\КАРТИНКИ ПРЕЗ\304610_html_337cb6c1.jpg"/>
          <p:cNvPicPr/>
          <p:nvPr/>
        </p:nvPicPr>
        <p:blipFill>
          <a:blip r:embed="rId2"/>
          <a:stretch/>
        </p:blipFill>
        <p:spPr>
          <a:xfrm>
            <a:off x="5072040" y="1714680"/>
            <a:ext cx="27813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27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5" name="Picture 2" descr="C:\Users\Любовь_2\Desktop\АВГУСТ - СЕНТЯБРЬ\КАРТИНКИ ПРЕЗ\18873_html_509959cc.jpg"/>
          <p:cNvPicPr/>
          <p:nvPr/>
        </p:nvPicPr>
        <p:blipFill>
          <a:blip r:embed="rId2"/>
          <a:stretch/>
        </p:blipFill>
        <p:spPr>
          <a:xfrm>
            <a:off x="500040" y="1143000"/>
            <a:ext cx="8183520" cy="4286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571680" y="1213920"/>
            <a:ext cx="4000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6952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ая соединительная линия 4"/>
          <p:cNvSpPr/>
          <p:nvPr/>
        </p:nvSpPr>
        <p:spPr>
          <a:xfrm>
            <a:off x="1714680" y="2571840"/>
            <a:ext cx="550044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Прямая соединительная линия 7"/>
          <p:cNvSpPr/>
          <p:nvPr/>
        </p:nvSpPr>
        <p:spPr>
          <a:xfrm>
            <a:off x="3500280" y="1643040"/>
            <a:ext cx="4429440" cy="22147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3429000" y="14288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Овал 9"/>
          <p:cNvSpPr/>
          <p:nvPr/>
        </p:nvSpPr>
        <p:spPr>
          <a:xfrm>
            <a:off x="3429000" y="1643040"/>
            <a:ext cx="71280" cy="460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7643880" y="3429000"/>
            <a:ext cx="5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6779880" y="25002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Прямая соединительная линия 13"/>
          <p:cNvSpPr/>
          <p:nvPr/>
        </p:nvSpPr>
        <p:spPr>
          <a:xfrm>
            <a:off x="2000160" y="3357720"/>
            <a:ext cx="3357720" cy="2357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Прямая соединительная линия 15"/>
          <p:cNvSpPr/>
          <p:nvPr/>
        </p:nvSpPr>
        <p:spPr>
          <a:xfrm flipV="1">
            <a:off x="1143000" y="4500360"/>
            <a:ext cx="5357880" cy="1143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Овал 16"/>
          <p:cNvSpPr/>
          <p:nvPr/>
        </p:nvSpPr>
        <p:spPr>
          <a:xfrm flipH="1">
            <a:off x="1999440" y="3357720"/>
            <a:ext cx="7164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17"/>
          <p:cNvSpPr/>
          <p:nvPr/>
        </p:nvSpPr>
        <p:spPr>
          <a:xfrm>
            <a:off x="2071800" y="292896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TextBox 18"/>
          <p:cNvSpPr/>
          <p:nvPr/>
        </p:nvSpPr>
        <p:spPr>
          <a:xfrm>
            <a:off x="4919040" y="51436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Овал 19"/>
          <p:cNvSpPr/>
          <p:nvPr/>
        </p:nvSpPr>
        <p:spPr>
          <a:xfrm>
            <a:off x="1214280" y="5643720"/>
            <a:ext cx="4608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TextBox 20"/>
          <p:cNvSpPr/>
          <p:nvPr/>
        </p:nvSpPr>
        <p:spPr>
          <a:xfrm>
            <a:off x="1143000" y="57150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Box 21"/>
          <p:cNvSpPr/>
          <p:nvPr/>
        </p:nvSpPr>
        <p:spPr>
          <a:xfrm>
            <a:off x="6204600" y="44290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Box 22"/>
          <p:cNvSpPr/>
          <p:nvPr/>
        </p:nvSpPr>
        <p:spPr>
          <a:xfrm>
            <a:off x="4214880" y="4714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волка -  у м/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 зайца – х м/ 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&gt; 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10: ( У-Х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ая соединительная линия 4"/>
          <p:cNvSpPr/>
          <p:nvPr/>
        </p:nvSpPr>
        <p:spPr>
          <a:xfrm flipV="1">
            <a:off x="857160" y="3571560"/>
            <a:ext cx="721512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Овал 5"/>
          <p:cNvSpPr/>
          <p:nvPr/>
        </p:nvSpPr>
        <p:spPr>
          <a:xfrm flipH="1" flipV="1">
            <a:off x="811080" y="3642480"/>
            <a:ext cx="46080" cy="71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99" name="Прямая со стрелкой 7"/>
          <p:cNvCxnSpPr/>
          <p:nvPr/>
        </p:nvCxnSpPr>
        <p:spPr>
          <a:xfrm>
            <a:off x="1000080" y="4285800"/>
            <a:ext cx="135792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0" name="TextBox 8"/>
          <p:cNvSpPr/>
          <p:nvPr/>
        </p:nvSpPr>
        <p:spPr>
          <a:xfrm>
            <a:off x="1357200" y="40006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Овал 9"/>
          <p:cNvSpPr/>
          <p:nvPr/>
        </p:nvSpPr>
        <p:spPr>
          <a:xfrm>
            <a:off x="3929040" y="3643200"/>
            <a:ext cx="46080" cy="142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02" name="Прямая со стрелкой 11"/>
          <p:cNvCxnSpPr/>
          <p:nvPr/>
        </p:nvCxnSpPr>
        <p:spPr>
          <a:xfrm flipV="1">
            <a:off x="4285800" y="3285360"/>
            <a:ext cx="1429560" cy="7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3" name="TextBox 13"/>
          <p:cNvSpPr/>
          <p:nvPr/>
        </p:nvSpPr>
        <p:spPr>
          <a:xfrm>
            <a:off x="4457160" y="3071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Дуга 14"/>
          <p:cNvSpPr/>
          <p:nvPr/>
        </p:nvSpPr>
        <p:spPr>
          <a:xfrm>
            <a:off x="857160" y="3643200"/>
            <a:ext cx="46080" cy="7164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Дуга 15"/>
          <p:cNvSpPr/>
          <p:nvPr/>
        </p:nvSpPr>
        <p:spPr>
          <a:xfrm>
            <a:off x="857160" y="3714840"/>
            <a:ext cx="71640" cy="46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Круговая стрелка 16"/>
          <p:cNvSpPr/>
          <p:nvPr/>
        </p:nvSpPr>
        <p:spPr>
          <a:xfrm>
            <a:off x="857160" y="3357720"/>
            <a:ext cx="3214800" cy="35712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Box 17"/>
          <p:cNvSpPr/>
          <p:nvPr/>
        </p:nvSpPr>
        <p:spPr>
          <a:xfrm>
            <a:off x="2286000" y="30002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0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2428920" y="38577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А)( у – х )м/ми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357120" y="1428840"/>
          <a:ext cx="8229600" cy="4690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а+3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а-2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</a:tbl>
          </a:graphicData>
        </a:graphic>
      </p:graphicFrame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10:10      1200:100      150:10    245000:1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00  ·100     82 · 1000  750 ·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одной стопке  35 тетр, а в другой 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 раза &gt;, на 15 &gt;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нига стоит 120 руб, альбом в 2 раза дешевл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лько стоит альбом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Построить прямую АВ; на отрезке АВ отметить  точку С, через С провести прямую с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Прямую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 L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и отрезок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N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пересекающиеся в точке  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Построить пересекающиеся прямые АВ и СД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 построить лучи  АК, АМ, А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течения реки -2км/ч, собственная скорость  катера 15 км/час. Составьте выражения и найти их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скорость катера  при движении по вод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против движения вод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 расстояние которое пройдет катер за три часа по течению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расстояние за три часа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время  на прохождение 68км по течению ре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время на прохождение 78 км при движении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на сколько скорость катера по течению больше скорости против теч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7:09:18Z</dcterms:created>
  <dc:creator>Любовь</dc:creator>
  <dc:description/>
  <dc:language>en-US</dc:language>
  <cp:lastModifiedBy>Любовь</cp:lastModifiedBy>
  <dcterms:modified xsi:type="dcterms:W3CDTF">2015-09-22T18:40:22Z</dcterms:modified>
  <cp:revision>2</cp:revision>
  <dc:subject/>
  <dc:title>Урок математики в 5классе по теме « Прямая, отрезок и луч»</dc:title>
</cp:coreProperties>
</file>